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jpeg" ContentType="image/jpeg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5C8A145-05DD-4C65-BE1D-F3C1016DE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each group a different point to substitute into the equations to check to see which one satisifies the eq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only suggested starters for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893-3E16-44AA-8371-167760FD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368-9AAA-49AB-95BA-7018DCFD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87D5-F259-47C9-BEA3-80E6864F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6AB-BD19-433D-A387-51F6EFC4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E0C9-041A-4EC1-B7E0-CBC3AC9D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9B44-D3F0-4C97-88C4-A12EF1E7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A226-6F1A-468B-A716-AE38AB43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FDFF-5228-42F4-9873-03B8256D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4B0A-033A-4B5C-BBCC-F0D490D5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182F-DD7E-456F-858C-EEA0E7C3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00D9-DEB7-43D4-8AF9-6C2922B2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A52C-40F5-4929-8D02-6D5C2CFB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9EEA-FCE1-49C2-9F04-BD68BFC4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484C-B2F0-4DD0-B425-47BCC1DC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434E-8201-44DF-9E70-A8975869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7477-2283-4B76-BE19-75CD2122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F280-139A-4C69-A38A-E833FC86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306-2102-400C-AD34-AD46C7C7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BBF-0A90-4228-8986-31B4442B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C44-DF33-4B12-B4C6-A6FB62FC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306-918D-414F-810B-8E6ACA86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CD5-9B58-4C75-B243-CF46C860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DF8-8773-4C54-9702-49434A5F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8EA-5104-407E-95BA-1CE49D37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EF12-D232-4167-A0EC-AADB2E3EC880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4D28-9ADF-4BCC-B880-DB7959EC2C68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3E42-80E5-4755-BF2A-3D3C1DD049A3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d469b"/>
                </a:solidFill>
                <a:latin typeface="Arial"/>
              </a:rPr>
              <a:t>Linear Relations</a:t>
            </a:r>
            <a:br>
              <a:rPr sz="4800"/>
            </a:br>
            <a:r>
              <a:rPr b="1" i="1" lang="en-US" sz="4800" spc="-1" strike="noStrike">
                <a:solidFill>
                  <a:srgbClr val="0d469b"/>
                </a:solidFill>
                <a:latin typeface="Arial"/>
              </a:rPr>
              <a:t>Day 2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3733920"/>
            <a:ext cx="5715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CAMP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18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Greg Clar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rish Ste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415800" y="787320"/>
            <a:ext cx="8331480" cy="5867640"/>
            <a:chOff x="415800" y="787320"/>
            <a:chExt cx="8331480" cy="5867640"/>
          </a:xfrm>
        </p:grpSpPr>
        <p:grpSp>
          <p:nvGrpSpPr>
            <p:cNvPr id="141" name=""/>
            <p:cNvGrpSpPr/>
            <p:nvPr/>
          </p:nvGrpSpPr>
          <p:grpSpPr>
            <a:xfrm>
              <a:off x="415800" y="787320"/>
              <a:ext cx="8331480" cy="5867640"/>
              <a:chOff x="415800" y="787320"/>
              <a:chExt cx="8331480" cy="5867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15800" y="805320"/>
                <a:ext cx="8331480" cy="58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94320" y="787320"/>
                <a:ext cx="0" cy="586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5800" y="3675240"/>
                <a:ext cx="8318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97160" y="3072240"/>
                <a:ext cx="2781360" cy="135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504720" y="100656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4720" y="3821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59760" y="389448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-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46800" y="878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racteristics/F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684600" y="3173400"/>
            <a:ext cx="177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r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alk This</a:t>
            </a: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ay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75200" y="1465200"/>
            <a:ext cx="36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IPS4RM Grade 9 Unit 5 T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821120" y="2052720"/>
            <a:ext cx="4068360" cy="2279160"/>
            <a:chOff x="4821120" y="2052720"/>
            <a:chExt cx="4068360" cy="2279160"/>
          </a:xfrm>
        </p:grpSpPr>
        <p:sp>
          <p:nvSpPr>
            <p:cNvPr id="154" name=""/>
            <p:cNvSpPr/>
            <p:nvPr/>
          </p:nvSpPr>
          <p:spPr>
            <a:xfrm>
              <a:off x="5919120" y="3933360"/>
              <a:ext cx="2364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Lucida Sans Unicode"/>
                </a:rPr>
                <a:t>Time (second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21120" y="2157120"/>
              <a:ext cx="641880" cy="179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Lucida Sans Unicode"/>
                </a:rPr>
                <a:t>Distance (metre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325480" y="2052720"/>
              <a:ext cx="3564000" cy="191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369720" y="1917720"/>
            <a:ext cx="450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graph describes Rami’s walk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motion detector. 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ell the story that describes this graph. 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Use distance away from the w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nd time in your 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486400" y="4352760"/>
            <a:ext cx="2743200" cy="1838160"/>
            <a:chOff x="5486400" y="4352760"/>
            <a:chExt cx="2743200" cy="1838160"/>
          </a:xfrm>
        </p:grpSpPr>
        <p:sp>
          <p:nvSpPr>
            <p:cNvPr id="159" name="Cloud"/>
            <p:cNvSpPr/>
            <p:nvPr/>
          </p:nvSpPr>
          <p:spPr>
            <a:xfrm>
              <a:off x="5486400" y="4352760"/>
              <a:ext cx="2743200" cy="183816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70800" y="4679640"/>
              <a:ext cx="2298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tumbling Block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alk This Way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392720" y="2973240"/>
            <a:ext cx="4120560" cy="2849400"/>
            <a:chOff x="4392720" y="2973240"/>
            <a:chExt cx="4120560" cy="284940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4899600" y="2973240"/>
              <a:ext cx="361368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506920" y="5308920"/>
              <a:ext cx="239796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Lucida Sans Unicode"/>
                </a:rPr>
                <a:t>Time (second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92720" y="3024360"/>
              <a:ext cx="650880" cy="23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Lucida Sans Unicode"/>
                </a:rPr>
                <a:t>Distance (metre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84560" y="1676880"/>
            <a:ext cx="804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A story is described bel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ketch the graph that describes the story in the screen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4200" y="3045600"/>
            <a:ext cx="438408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gin 5 metres from the wall.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alk towards the wall for 5 seconds.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op for 5 seconds.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un back to your starting position.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814400" y="4567320"/>
            <a:ext cx="2743200" cy="1838160"/>
            <a:chOff x="1814400" y="4567320"/>
            <a:chExt cx="2743200" cy="1838160"/>
          </a:xfrm>
        </p:grpSpPr>
        <p:sp>
          <p:nvSpPr>
            <p:cNvPr id="169" name="Cloud"/>
            <p:cNvSpPr/>
            <p:nvPr/>
          </p:nvSpPr>
          <p:spPr>
            <a:xfrm>
              <a:off x="1814400" y="4567320"/>
              <a:ext cx="2743200" cy="183816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98800" y="4894200"/>
              <a:ext cx="2298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tumbling Block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04920" y="2662200"/>
            <a:ext cx="3048120" cy="2032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788000" y="1515960"/>
            <a:ext cx="2070000" cy="4469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’s Explore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4160" y="2142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ermat’s Footwear Wage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38080" y="1425600"/>
            <a:ext cx="690408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2338560" y="4889520"/>
            <a:ext cx="2057400" cy="1541520"/>
            <a:chOff x="2338560" y="4889520"/>
            <a:chExt cx="2057400" cy="1541520"/>
          </a:xfrm>
        </p:grpSpPr>
        <p:sp>
          <p:nvSpPr>
            <p:cNvPr id="177" name="Cloud"/>
            <p:cNvSpPr/>
            <p:nvPr/>
          </p:nvSpPr>
          <p:spPr>
            <a:xfrm>
              <a:off x="2338560" y="4889520"/>
              <a:ext cx="2057400" cy="154152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51680" y="5163480"/>
              <a:ext cx="1723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mbling Bloc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130640" y="98676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IPS4RM Gr 10 Applied  Unit 4  Day 1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Using Equations as a Point Tester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36160" y="278856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P = 0.01s + 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7600" y="346176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P = 0.10s +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20600" y="426816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P = 100s +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86760" y="5034960"/>
            <a:ext cx="18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P = 0.05s + 2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TIIimagefile1696" descr="[image]"/>
          <p:cNvPicPr/>
          <p:nvPr/>
        </p:nvPicPr>
        <p:blipFill>
          <a:blip r:embed="rId1"/>
          <a:stretch/>
        </p:blipFill>
        <p:spPr>
          <a:xfrm>
            <a:off x="4470480" y="2114640"/>
            <a:ext cx="4322520" cy="3649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817800" y="2871720"/>
            <a:ext cx="65268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ek's Pay ($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06920" y="5705640"/>
            <a:ext cx="25941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tal Value of Sales ($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26160" y="4746600"/>
            <a:ext cx="161640" cy="16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45080" y="4429080"/>
            <a:ext cx="162000" cy="16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16480" y="4146480"/>
            <a:ext cx="162000" cy="16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04080" y="3851280"/>
            <a:ext cx="162000" cy="16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02480" y="3583080"/>
            <a:ext cx="162000" cy="16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3200" y="11253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How Do These Questions Connect to the Big Ideas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42760" y="2832120"/>
            <a:ext cx="41263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Can I Buy This B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19360" y="3832200"/>
            <a:ext cx="2315880" cy="4597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lk This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90280" y="4707000"/>
            <a:ext cx="3958560" cy="459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mat’s Footwear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Which MP Did You Experience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52680" y="1895400"/>
            <a:ext cx="43718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412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irst Word – Last Wo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2319000">
            <a:off x="6130440" y="2433600"/>
            <a:ext cx="955800" cy="752400"/>
          </a:xfrm>
          <a:custGeom>
            <a:avLst/>
            <a:gdLst>
              <a:gd name="textAreaLeft" fmla="*/ 119520 w 955800"/>
              <a:gd name="textAreaRight" fmla="*/ 836640 w 955800"/>
              <a:gd name="textAreaTop" fmla="*/ 187920 h 752400"/>
              <a:gd name="textAreaBottom" fmla="*/ 564480 h 752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51600" y="3322800"/>
            <a:ext cx="1452600" cy="1036440"/>
          </a:xfrm>
          <a:prstGeom prst="wedgeRoundRectCallout">
            <a:avLst>
              <a:gd name="adj1" fmla="val -9564"/>
              <a:gd name="adj2" fmla="val 76648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am thinking tha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8797800">
            <a:off x="5868720" y="4429080"/>
            <a:ext cx="955440" cy="752400"/>
          </a:xfrm>
          <a:custGeom>
            <a:avLst/>
            <a:gdLst>
              <a:gd name="textAreaLeft" fmla="*/ 119160 w 955440"/>
              <a:gd name="textAreaRight" fmla="*/ 836280 w 955440"/>
              <a:gd name="textAreaTop" fmla="*/ 187920 h 752400"/>
              <a:gd name="textAreaBottom" fmla="*/ 564480 h 752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32200" y="4975200"/>
            <a:ext cx="1585800" cy="889200"/>
          </a:xfrm>
          <a:prstGeom prst="wedgeRectCallout">
            <a:avLst>
              <a:gd name="adj1" fmla="val 1453"/>
              <a:gd name="adj2" fmla="val 8553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my clas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4200" y="3656160"/>
            <a:ext cx="1854360" cy="968400"/>
          </a:xfrm>
          <a:prstGeom prst="cloudCallout">
            <a:avLst>
              <a:gd name="adj1" fmla="val -44949"/>
              <a:gd name="adj2" fmla="val 7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wonder i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3630200">
            <a:off x="2070360" y="4703760"/>
            <a:ext cx="955440" cy="752400"/>
          </a:xfrm>
          <a:custGeom>
            <a:avLst/>
            <a:gdLst>
              <a:gd name="textAreaLeft" fmla="*/ 119160 w 955440"/>
              <a:gd name="textAreaRight" fmla="*/ 836280 w 955440"/>
              <a:gd name="textAreaTop" fmla="*/ 187920 h 752400"/>
              <a:gd name="textAreaBottom" fmla="*/ 564480 h 752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9480800">
            <a:off x="1644120" y="2436840"/>
            <a:ext cx="955800" cy="752400"/>
          </a:xfrm>
          <a:custGeom>
            <a:avLst/>
            <a:gdLst>
              <a:gd name="textAreaLeft" fmla="*/ 119520 w 955800"/>
              <a:gd name="textAreaRight" fmla="*/ 836640 w 955800"/>
              <a:gd name="textAreaTop" fmla="*/ 187920 h 752400"/>
              <a:gd name="textAreaBottom" fmla="*/ 564480 h 752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05280" y="1258920"/>
            <a:ext cx="2836800" cy="1841400"/>
          </a:xfrm>
          <a:prstGeom prst="wedgeEllipseCallout">
            <a:avLst>
              <a:gd name="adj1" fmla="val 4171"/>
              <a:gd name="adj2" fmla="val 6706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ason I chose this topic i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75000" y="3402000"/>
            <a:ext cx="23004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ight Discussion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65320" y="1282680"/>
            <a:ext cx="2837160" cy="1841400"/>
          </a:xfrm>
          <a:prstGeom prst="wedgeEllipseCallout">
            <a:avLst>
              <a:gd name="adj1" fmla="val 6069"/>
              <a:gd name="adj2" fmla="val 656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scussion topic that I am interested in i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1200" y="2151000"/>
            <a:ext cx="824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1:  Identify any stumbling blocks students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unter with your learning go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6080" y="3743280"/>
            <a:ext cx="824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2:  Identify any areas that are under or o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hasized with your learning go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does Research Tell Us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76200" y="1697040"/>
            <a:ext cx="840096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50920" y="782640"/>
            <a:ext cx="5459400" cy="534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557360" y="1263600"/>
            <a:ext cx="6014880" cy="439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49280" y="1557360"/>
            <a:ext cx="8246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82480" y="1676520"/>
            <a:ext cx="7980480" cy="350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tumbling Bloc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2560" y="1744560"/>
            <a:ext cx="74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:  Solve all thre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y possible stumbling blocks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encou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14600" y="3657600"/>
            <a:ext cx="2217960" cy="1943280"/>
          </a:xfrm>
          <a:prstGeom prst="rect">
            <a:avLst/>
          </a:prstGeom>
          <a:ln w="0">
            <a:noFill/>
          </a:ln>
        </p:spPr>
      </p:pic>
      <p:sp>
        <p:nvSpPr>
          <p:cNvPr id="103" name="Cloud"/>
          <p:cNvSpPr/>
          <p:nvPr/>
        </p:nvSpPr>
        <p:spPr>
          <a:xfrm>
            <a:off x="914400" y="3262320"/>
            <a:ext cx="2233440" cy="14968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0832600">
            <a:off x="1047600" y="368604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tumbling Bloc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1744560"/>
            <a:ext cx="76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:  Pick one or more solutions to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algamate possible stumbling blocks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encou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14600" y="3657600"/>
            <a:ext cx="2217960" cy="1943280"/>
          </a:xfrm>
          <a:prstGeom prst="rect">
            <a:avLst/>
          </a:prstGeom>
          <a:ln w="0">
            <a:noFill/>
          </a:ln>
        </p:spPr>
      </p:pic>
      <p:sp>
        <p:nvSpPr>
          <p:cNvPr id="108" name="Cloud"/>
          <p:cNvSpPr/>
          <p:nvPr/>
        </p:nvSpPr>
        <p:spPr>
          <a:xfrm>
            <a:off x="914400" y="3262320"/>
            <a:ext cx="2233440" cy="14968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0832600">
            <a:off x="1066680" y="3499920"/>
            <a:ext cx="18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al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ocuments"/>
          <p:cNvSpPr/>
          <p:nvPr/>
        </p:nvSpPr>
        <p:spPr>
          <a:xfrm>
            <a:off x="6437160" y="3330720"/>
            <a:ext cx="135288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tumbling Blocks: Gallery W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1744560"/>
            <a:ext cx="796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: Circulate around the roo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ny comments or questions to solution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stumbling blocks on sticky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14600" y="3657600"/>
            <a:ext cx="2217960" cy="1943280"/>
          </a:xfrm>
          <a:prstGeom prst="rect">
            <a:avLst/>
          </a:prstGeom>
          <a:ln w="0">
            <a:noFill/>
          </a:ln>
        </p:spPr>
      </p:pic>
      <p:sp>
        <p:nvSpPr>
          <p:cNvPr id="114" name="Cloud"/>
          <p:cNvSpPr/>
          <p:nvPr/>
        </p:nvSpPr>
        <p:spPr>
          <a:xfrm>
            <a:off x="914400" y="3262320"/>
            <a:ext cx="2233440" cy="14968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558120" y="3384720"/>
            <a:ext cx="1352520" cy="1809720"/>
            <a:chOff x="6558120" y="3384720"/>
            <a:chExt cx="1352520" cy="1809720"/>
          </a:xfrm>
        </p:grpSpPr>
        <p:sp>
          <p:nvSpPr>
            <p:cNvPr id="116" name="Document"/>
            <p:cNvSpPr/>
            <p:nvPr/>
          </p:nvSpPr>
          <p:spPr>
            <a:xfrm>
              <a:off x="6558120" y="3384720"/>
              <a:ext cx="1352520" cy="18097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6689880" y="3825720"/>
              <a:ext cx="1077840" cy="86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Gallery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 </a:t>
              </a: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Walk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996160" y="2924280"/>
            <a:ext cx="1225440" cy="1087200"/>
            <a:chOff x="5996160" y="2924280"/>
            <a:chExt cx="1225440" cy="108720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5996160" y="2924280"/>
              <a:ext cx="1225440" cy="108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294600" y="2998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591320" y="4637160"/>
            <a:ext cx="762120" cy="1103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rot="20832600">
            <a:off x="1114560" y="3492000"/>
            <a:ext cx="18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hen Can I Buy this Bike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75200" y="1465200"/>
            <a:ext cx="36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IPS4RM Grade 8 Unit 2 Day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80" y="2140200"/>
            <a:ext cx="774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ckenzie has found the bicycle that she always wan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t costs $350.00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e received $300 as a gift from her fami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ow long would it take her to save enough money to purc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e bike if she earns $12 a week babysit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364000" y="3881520"/>
            <a:ext cx="2743200" cy="1838160"/>
            <a:chOff x="5364000" y="3881520"/>
            <a:chExt cx="2743200" cy="1838160"/>
          </a:xfrm>
        </p:grpSpPr>
        <p:sp>
          <p:nvSpPr>
            <p:cNvPr id="127" name="Cloud"/>
            <p:cNvSpPr/>
            <p:nvPr/>
          </p:nvSpPr>
          <p:spPr>
            <a:xfrm>
              <a:off x="5364000" y="3881520"/>
              <a:ext cx="2743200" cy="183816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48400" y="4208400"/>
              <a:ext cx="2298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tumbling Block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415800" y="787320"/>
            <a:ext cx="8331480" cy="5867640"/>
            <a:chOff x="415800" y="787320"/>
            <a:chExt cx="8331480" cy="5867640"/>
          </a:xfrm>
        </p:grpSpPr>
        <p:grpSp>
          <p:nvGrpSpPr>
            <p:cNvPr id="130" name=""/>
            <p:cNvGrpSpPr/>
            <p:nvPr/>
          </p:nvGrpSpPr>
          <p:grpSpPr>
            <a:xfrm>
              <a:off x="415800" y="787320"/>
              <a:ext cx="8331480" cy="5867640"/>
              <a:chOff x="415800" y="787320"/>
              <a:chExt cx="8331480" cy="5867640"/>
            </a:xfrm>
          </p:grpSpPr>
          <p:sp>
            <p:nvSpPr>
              <p:cNvPr id="131" name=""/>
              <p:cNvSpPr/>
              <p:nvPr/>
            </p:nvSpPr>
            <p:spPr>
              <a:xfrm>
                <a:off x="415800" y="805320"/>
                <a:ext cx="8331480" cy="58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594320" y="787320"/>
                <a:ext cx="0" cy="586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5800" y="3675240"/>
                <a:ext cx="8318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197160" y="3072240"/>
                <a:ext cx="2781360" cy="135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04720" y="100656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4720" y="3821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59760" y="389448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-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46800" y="878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racteristics/F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56000" y="3254400"/>
            <a:ext cx="231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PSteele</cp:lastModifiedBy>
  <dcterms:modified xsi:type="dcterms:W3CDTF">2009-08-05T00:52:42Z</dcterms:modified>
  <cp:revision>126</cp:revision>
  <dc:subject/>
  <dc:title>Math GAINS 2008-09</dc:title>
</cp:coreProperties>
</file>